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979-C2A8-4E3D-91AB-A068824F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0B8-CA41-4B7D-B1E5-51EF821C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95BFC-2AF5-4C0D-86F6-260889B9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831F8-5B67-43B4-9881-C8591CD7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5B321-07BF-41D0-BDFF-A7E1C148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A48B2-EBFF-40A1-8E86-72B16309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E83E2-8F84-4ADF-AACD-452EBBB4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55041-B0E7-4001-AEF5-3395D41F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471B7-2230-477C-B407-D195F437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E84EE-7E9C-442C-B4B0-8CB2506CA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479BC-5220-429D-A5DB-C30A3F6F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AFF-F34F-4174-AB68-78D670ED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152-1D6B-425E-86A2-01164982C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C3F5-660A-4936-8B50-250CD6EC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E787-E289-41B3-862C-D44B969B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814B-6A22-49A3-9226-E0932EE5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5DC0-5407-487D-ADDD-625B5D8C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0BC9-A72B-419B-8CD8-E76294AF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554E-6843-4775-9A7F-7A5FD30D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7568-62AF-4DFF-8126-D3C2230B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BED1-1BCE-4F96-B669-358A1C98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C2BA-7599-4863-9B12-9F8EA4C4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FED8-9F9C-49C3-A61B-D38FA493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691B-B448-4E35-BFE9-B5E2A31F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AF99-D223-42E5-BC9A-F4FEEB66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7094-3C7D-4746-BD73-96A835EF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9AF6B-D253-4F00-8A5D-D2B04C6B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E581A-088A-4F19-9805-16DC6A66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65DCA-57F4-4312-9947-01A48631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BDEF8-E0FB-438C-AF71-DA30197B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DBF7-3853-461F-8D55-B1549453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4252-2212-4A0E-896D-80D215BF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0F5D-69E3-456A-93CD-24481A30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27C02-AC17-41C3-BE34-1FC9E09D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3851-D3C2-4840-9EE9-C9613F34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3347-CCF9-4D9D-B584-7760CEEA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9155-4D0C-4CC6-BDFD-1CD72485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799C-14E5-4ABE-A11C-73B84AAC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2026D-86B5-4474-BA50-9427093C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D2294-9B92-40A4-B0D6-EEEADE68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9C46-7D9A-4FFD-9009-9A4D3258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BF5FF-CDE9-4EEC-8122-72C69DB0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C0C-9565-4BB4-B513-A3798D05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B5659-3D89-4FF5-995B-C9EC71C8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3D0C2-44F3-4003-9C34-9DB74F80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26E19-B614-4FFA-926A-F04FC3C7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F42DD-D9A8-408E-9CB1-2EF5CE63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87A9C-AAE8-4DDE-9687-FCD5544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D790A-6288-48E7-9F52-7D4DBD90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727EE-4F2A-4BDA-A8C9-937D7A9B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1AB8-8791-408F-AC76-E0C43992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353C2-34DD-4310-AFEA-A95D41C2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D38B9-13AF-495D-956F-7635CF72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F450-294C-4297-927C-8924E562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2B86F-DF1D-42EE-83F8-62042F49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1E380-F1A2-4D84-A45F-DC6CD236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33657-6178-4B16-A72F-24A853D7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1ED6B-B75A-47DE-BDDD-255A3618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31BF-1F7B-4658-8935-6C555AAD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CF284-69AC-419D-B9B3-378D73AF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F8655-07C2-40A1-8491-432630E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40313-1994-4330-85BA-76FBF285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1B1D4-4784-412E-AB86-BBF443E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F92A2-692A-4F01-ADDC-7AFB6060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1BC-E32F-4C17-BC7E-4E6A5393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EE739-20CF-449F-BE51-B7D62997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C6B5F-1D1E-4ACE-8BE2-7B29369E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3817A-342E-4EC4-B224-60A279DD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5D7B3-85EE-4406-B5BD-1AD4BEFD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EDC80-9889-452E-B76B-29CF0EA9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B2A66-39DB-4C03-82AB-855E92F8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9DF1A-7EE0-4606-B466-C2932A10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97991-79D6-4347-B2E2-B0CCBDAD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239D3-EE95-42EC-AECE-73A37C52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5FBCF-C6A3-4655-9A3C-2F5C77B4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FB4-172D-470D-B52C-203BEED1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8E307-1E2C-4D78-A527-A8C27080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BE76D-278B-45E4-AD07-6602A4A0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FE5D1-782B-4807-BFEC-E6AC21D3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9D16E-0752-4710-BA9F-ED6370DB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CF590-3BD7-476C-90BE-1CDFEA28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B978E-E03C-4CBE-950A-10B0A58C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8E71D-8269-4640-9956-754C229A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6C1F8-5737-4F7E-9F93-40B5268A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C898B-A24F-4B1B-8452-DCA8DAFF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60DE6-540F-4BE2-8127-31B11C0B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FD83-3758-4F65-9411-7C760114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7F3AE-4808-489A-8BAF-B623F02C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68B90-516D-4186-A87C-2847B139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6EB54-346F-4CB8-A306-300E9C20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65739-BECD-43AB-AA31-64AA3F48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D67CB-E7C5-4979-AC5D-60671A74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599ED-30AE-4605-BAFD-230B466E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EDA99-83B0-46A0-BFEF-3F18F0AA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DD59C-1B5F-429D-A3F8-2CB82FBD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1EFD7-8753-4265-AFA5-12EC9BD0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CD839-A4E7-47DF-B41D-F20404C8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0AA5-BCF6-4766-88A4-960CD044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C05F6-BFF3-46E1-B6B3-986AD020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DD6BA-ADE6-48F3-B9A3-B5C7C4B8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D2092-A082-4A31-A644-96537CF6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A027E-E965-4FA1-B2CE-D85892E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AF7D8-A3B7-467A-913D-6B1A38ED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01FF9-A886-46C8-A4E4-7562A36A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16228-6007-40FF-9C23-5AF71EE1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5DBFA-DDBD-4FA2-97EE-90536E21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C2725-E541-4E4F-A06A-5A3E8C67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03E5F-1133-418F-8FF1-31D1102D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3277-F627-4665-96EA-64BB591AB0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6F3E-561B-409E-97A0-399A2B6FE59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1011-FA5C-4AB5-AC2D-6E8A62AA241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8394-EF55-4197-8AFE-6BC7647FAE1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A1F3-CFE9-4128-B905-777BCF2F7E8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C91B-CCEB-4E62-8430-0F7E69D89DC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B8E0-DA3B-4C6D-9EBD-E3899704F46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0A44-E673-4ACF-9C3F-900015B3F67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D66D-D7AD-4BD3-B88B-77784183D73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Structure and Principles </a:t>
            </a:r>
            <a:r>
              <a:rPr b="0" i="1" lang="en-US" sz="2400" spc="-1" strike="noStrike">
                <a:solidFill>
                  <a:srgbClr val="443329"/>
                </a:solidFill>
                <a:latin typeface="Franklin Gothic Book"/>
              </a:rPr>
              <a:t>Chapter 3 Section 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eamb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mendm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tates the reason and goals of the Constitu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o form a more perfect Union, establish Justice, insure domestic Tranquility, provide for the common defense, promote the general Welfare, and secure the Blessings of Liberty to ourselves and our posterity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 1 establishes the legislative branch and it’s rules of oper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 2 creates and defines the executive branch (to carry out laws made by the legislative branch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 3 establishes the Supreme Court, or judicial branch of govern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anges to the Constitu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Constitution has been amended 27 times throughout the nation’s history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first 10 amendments are known as the Bill of Right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opular Sovereignty – rule by the peop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ederalism – power shared between Federal and State governm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paration of Powers – the three branches of government created in the articles each have responsibilities to keep any one branch from having too much pow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cks and Balances – each branch of government exercises some control over the oth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udicial Review – the Court decides whether or not laws are constitution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imited Government – the Constitution limits the actions of govern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2:05:06Z</dcterms:created>
  <dc:creator>Jan</dc:creator>
  <dc:description/>
  <dc:language>en-US</dc:language>
  <cp:lastModifiedBy>Jan</cp:lastModifiedBy>
  <dcterms:modified xsi:type="dcterms:W3CDTF">2010-07-19T12:32:28Z</dcterms:modified>
  <cp:revision>3</cp:revision>
  <dc:subject/>
  <dc:title>The American Constitution</dc:title>
</cp:coreProperties>
</file>